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B84-207D-4650-B3F3-7CA6E368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6BB-B497-445F-8E2B-E4CFE979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C64-A71A-4B18-8921-5325E49D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48D-827F-46C0-A2F9-3A7D48EC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5EC-0DC7-4739-B964-A98574A2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DC3-E8D5-4C45-BFFF-835B6B85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7C1-080E-4F0B-A031-12349A39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B1D-4769-4FD9-AF37-E3AA5E8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49B-BA20-43C3-8BFF-15C13F0B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47D-00E6-4952-87B7-8FD9AE59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2CC-1AF3-41FF-97F3-34E6DE9C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436-C69F-48FF-892D-01C3864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8FF-881D-4D4F-BFF7-4AE979F04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51460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Monotype Corsiva"/>
              </a:rPr>
              <a:t>Movimenti migrato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743200" y="3808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0"/>
            <a:ext cx="3429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e persone vanno  a vivere in un altro paese 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7621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1447920"/>
            <a:ext cx="243828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Sfuggire da situazioni diffic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(esempio guerre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38880" y="609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0"/>
            <a:ext cx="9903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Trovare 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76212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1219320"/>
            <a:ext cx="3733920" cy="1447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Si chiama immigrazione quando in un paese arriv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Stranieri a vivere e cercare 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048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429000"/>
            <a:ext cx="30481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In Italia arrivano immigrati soprattu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46483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5334120"/>
            <a:ext cx="76176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Euro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5410080"/>
            <a:ext cx="18288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Africa Alb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066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86000"/>
            <a:ext cx="19810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Si chiama emigrazion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Quando vanno all’ es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er vivere e per cerc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9625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800600"/>
            <a:ext cx="2057400" cy="2057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Gli Italiani sono st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Emigrati in molti paesi 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Una volta, lo 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Anche oggi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9528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800600"/>
            <a:ext cx="12956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ete princip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95480" y="52578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53341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5791320"/>
            <a:ext cx="7621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Euro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5867280"/>
            <a:ext cx="838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U.s.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6095880"/>
            <a:ext cx="1067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10:06:34Z</dcterms:created>
  <dc:creator>studente</dc:creator>
  <dc:description/>
  <dc:language>en-US</dc:language>
  <cp:lastModifiedBy>studente</cp:lastModifiedBy>
  <dcterms:modified xsi:type="dcterms:W3CDTF">2016-12-05T10:28:01Z</dcterms:modified>
  <cp:revision>2</cp:revision>
  <dc:subject/>
  <dc:title>Presentazione di PowerPoint</dc:title>
</cp:coreProperties>
</file>